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D183BA-C457-4619-AFDD-A50FC5B0F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3392F2-96E3-4C3B-963C-3DCD0C5027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ers should go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A9E-6D10-4021-9804-D5534C26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698-B27D-4421-9A4C-E4311546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1F2-47A7-4777-BC53-E92DCB5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865-063D-4C25-8616-EEE1D9A8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109-ECC3-4630-8EFF-2BBDC4B7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6FA-2279-455E-B187-B332F96F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422-A093-4A6E-9CD6-17D4F96D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17B-EBA2-4B2E-B874-A506918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E15-DEE9-4AE9-9DBE-5C940CB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3B1-B8CB-4872-8120-56FD21A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EEE-DE5C-423E-81FE-4247183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771-AEBC-416B-B04D-5DBAFF2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766-DC15-4306-BFD4-804CF49BA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42200" y="6019920"/>
            <a:ext cx="1807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553080"/>
            <a:ext cx="8429400" cy="1800"/>
          </a:xfrm>
          <a:custGeom>
            <a:avLst/>
            <a:gdLst/>
            <a:ahLst/>
            <a:rect l="l" t="t" r="r" b="b"/>
            <a:pathLst>
              <a:path w="5310" h="1">
                <a:moveTo>
                  <a:pt x="0" y="0"/>
                </a:moveTo>
                <a:lnTo>
                  <a:pt x="531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9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1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EASURE Evaluation’s Monitoring and Evaluation Workshop  for Tuberculosis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orkshop Goal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three days of this workshop the participants will improve the key M&amp;E skills needed for monitoring and evaluation of TB programs at the national program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arning Objectives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principles of M&amp;E for effective TB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ecisions that can be informed by M&amp;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logic frameworks for a program’s success and logically explain how a program’s activities contributes to its obj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realistic and targeted goals and objectives for M&amp;E of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ppropriate indicators for specif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comfortable using the Compendium of Indicators as a resource for TB M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(or new) data to operationalize the selected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monitoring and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orkshop Logistic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30 AM. – 5:00 PM  on Monday, Tuesday and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nferenc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roduction to the group: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ease introduce yourself to the group by answering the following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country are you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role in your program’s M&amp;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would you most like to learn from this worksh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7:06:37Z</dcterms:created>
  <dc:creator>KNCV</dc:creator>
  <dc:description/>
  <dc:language>en-US</dc:language>
  <cp:lastModifiedBy>Carolina Population Center</cp:lastModifiedBy>
  <cp:lastPrinted>2003-11-14T20:57:34Z</cp:lastPrinted>
  <dcterms:modified xsi:type="dcterms:W3CDTF">2006-11-08T21:23:00Z</dcterms:modified>
  <cp:revision>78</cp:revision>
  <dc:subject/>
  <dc:title>Background</dc:title>
</cp:coreProperties>
</file>